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296-85E0-46F5-8255-6D903AEB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849-68C9-4B62-B538-5FAB5AE9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0B6-1033-4FF2-868A-CB11D24C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A3B-1801-4655-8176-AFA9E5EB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E7E-11DC-411E-89DE-1E02A228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D6C-EB52-4118-B325-46C2390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246-54E3-4C42-9E44-74718730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872-3137-4456-952D-611ABCBF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591-4C19-496D-8A1F-2A5E19E1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C36-F042-4830-B2CD-94B09F2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70F-CF54-4960-8600-6D73C3CE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C61-84E1-4B14-9FEE-35D5B9D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7E01-A4FE-416A-9F27-8BF2BAB33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02040" y="490680"/>
            <a:ext cx="711000" cy="996840"/>
            <a:chOff x="3002040" y="490680"/>
            <a:chExt cx="711000" cy="996840"/>
          </a:xfrm>
        </p:grpSpPr>
        <p:sp>
          <p:nvSpPr>
            <p:cNvPr id="42" name=""/>
            <p:cNvSpPr/>
            <p:nvPr/>
          </p:nvSpPr>
          <p:spPr>
            <a:xfrm flipH="1">
              <a:off x="3003480" y="522360"/>
              <a:ext cx="704880" cy="965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344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35870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455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38544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1236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239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420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5052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27744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204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609720" y="1266840"/>
              <a:ext cx="6696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4250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21552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344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60756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42504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21552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03300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73200" y="968400"/>
              <a:ext cx="0" cy="45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9160" y="1420920"/>
              <a:ext cx="5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30360" y="1036440"/>
              <a:ext cx="0" cy="38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292200" y="1420920"/>
              <a:ext cx="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441600" y="96372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59080" y="102888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62240" y="868680"/>
              <a:ext cx="7776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65480" y="91152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01760" y="1420920"/>
              <a:ext cx="7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98840" y="871560"/>
              <a:ext cx="540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46360" y="935280"/>
              <a:ext cx="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31960" y="1420920"/>
              <a:ext cx="7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06680" y="782280"/>
              <a:ext cx="144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6680" y="797040"/>
              <a:ext cx="13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31960" y="793800"/>
              <a:ext cx="1144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39960" y="92556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35400" y="784080"/>
              <a:ext cx="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181320" y="79704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61800" y="795600"/>
              <a:ext cx="1270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068640" y="887040"/>
              <a:ext cx="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305160" y="960120"/>
              <a:ext cx="2520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3234960" y="966600"/>
              <a:ext cx="27000" cy="6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02040" y="49068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w3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5:27:45Z</dcterms:created>
  <dc:creator>iw3ici</dc:creator>
  <dc:description/>
  <dc:language>en-US</dc:language>
  <cp:lastModifiedBy>iw3ici</cp:lastModifiedBy>
  <dcterms:modified xsi:type="dcterms:W3CDTF">2005-03-16T15:44:45Z</dcterms:modified>
  <cp:revision>3</cp:revision>
  <dc:subject/>
  <dc:title>Presentazione di PowerPoint</dc:title>
</cp:coreProperties>
</file>